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309-72D1-4DEB-B28A-B5E5F790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5ED-518F-462B-B9D7-0D5089B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C8EA5-EBF7-4FA0-8D36-6934CFBB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97B6C-7CAA-4F5F-9534-E78A9263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4AC67-E254-4FA2-85C2-F50B1922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BEF3E-1176-4B8F-9BD7-6629539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962B8-270F-4A0E-BB0E-E2445B8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EC9BB-6BD6-4AAC-B182-3EF3D6D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0D977-3626-4BD0-BC34-73B30681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E6956-2B36-4522-8BE8-3956D337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E1272-3459-448E-A580-78C35B43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54B25-6E2D-40EA-8A24-FC527677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842-17D3-4416-920D-07C688C4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8A299-0813-452F-8B4F-5931B1D4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13200-6411-45DB-9DEA-621CD383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25E5A-2AB2-41B5-BE5F-293BB569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FBF6E-8CFF-44B6-BCA8-6127C6AB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5F328-CB6E-44BA-91E0-3DCDCA84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0BB9F-BED9-409E-A884-FCA00E7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7F95C-974B-4DEF-B809-008C37D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D41BA-9F80-4F3D-A7FD-34B89423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32CC6-02EA-49E0-AF12-EC8909CA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2D4B2-A8F1-4A8F-A03A-CB4C2AA8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FD5-8ADE-4E00-953B-EA7C383C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6AF5D-CD40-40BE-A8EA-015CC5B8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7418A-789C-473D-9136-0204D646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1B4FE-3105-4F6A-A78E-AC7AFF4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F6D2A-C6C8-47AB-BFA2-CBE5163B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9B8A-4DBB-4D75-9884-F61C81E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574DF-4A34-4D00-83FA-A5535F3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8A606-833C-4890-AC42-6CBEBF0B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CCA22-1EEF-44C0-966B-AF3FD6A8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3A239-6D9C-4DD2-9BDE-978B3EE2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92D24-56AF-464B-9FB1-23ECFC74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F178-7771-4612-B5C0-8788C659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9C020-FD16-4B3B-8356-9ED120C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F1476-2056-4B9B-B221-9B840A20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1A05A-4EF2-4B07-AF2F-BC24A7C4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09BFA-FD94-4110-92BB-A95FBCA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0156A-D3E5-4C68-A757-CF079A0D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CABDF-7FE7-474C-9F40-5EA28F8C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D370F-6E42-410F-B0FA-EDE7CC90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3E9FD-3C23-4F5B-9B92-E9C844F9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764A2-58AD-44AA-BDD6-F54A49E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CA0E0-717A-47EC-A4EF-307AD4E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3F14-F3ED-4D09-B4AE-05B7C34A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A3FEB-82AB-4D9D-B41E-161702D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5F97C-E43F-4B98-B9B2-0C0E06E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2861A-858D-4456-863D-07E6984E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0A894-825E-4994-99B1-FE0EFBEA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C5C0D-C685-4FF5-90B7-152D3B1B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AF61A-F5F0-4FFE-8DA6-0415EDC6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A2710-3BE4-4F58-9862-F9FCD57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AC0B5-84F6-4E1F-9028-AAE4E7AC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0B252-FC90-4D31-B08E-504FC0A4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46C04-AD4C-4F42-A335-6A8B766F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AD0F-0707-439E-BF7F-E4591E6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234A0-A480-4917-92E1-558A2909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EB1C6-03E6-4206-B85E-771DE56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ADA2F-F1A6-4979-A2B8-396E403D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4F3B9-DDA6-4EFF-9A34-88EDEB5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998CF-4425-472E-BCCD-350A5112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9F969-5117-4172-8D00-87B2D705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0C04F-3ED9-4C0E-8CB3-928CBF86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D1B13-620C-45F5-8ACC-79F42FFC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6587D-6343-4547-BDF3-581E4A6F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97A84-2134-46BF-91F1-576D29DD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FB78-213C-4B77-8BD8-0A0D92F0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3B3A1-F53A-4635-B778-9846BCA7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461F9-B2D5-4733-8901-941EC42C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0F88A-908D-49CE-80F1-2316C8D2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AFD6E-1BBD-47FA-8DC2-F5DFD93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53404-99E1-4218-A5A8-1495D4F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3CD2E-A856-4B72-83DA-5A4C1E9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B2B6A-BEF9-4B05-81C9-AC8382C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0620E-1814-4383-BD78-F6D9FCAD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1DBFF-D1A4-4030-A70B-01453745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A0C10-E47B-407B-B8BF-1FA1A51F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B622-E209-496D-B9B9-394B1C9E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6A744-43B8-4228-A0DD-B074F0D5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0B594-830B-4435-8BFA-77F38CED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DA2B5-DDCE-4159-BA4F-287B7AA0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87EE8-35F6-42F6-8E2D-ABF544F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D9E5F-2F7D-4BD2-B3CF-BEFE4264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6668D-E1DA-431E-B312-CC4E95C5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B2CDB-FE8D-4D41-86B3-4699CA89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E7A30-9E42-4BED-8CBB-C1EA6FEE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F6058-C2F4-4F9B-9901-539FADA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928BB-A859-43F4-91FD-F712F97A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D767-1D16-434A-AECC-8E13A5FD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C58D7-1E9E-4B11-AA12-F2CAC772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7A33C-F160-4465-8F5A-1C3CAFE5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5EB84-302A-4EA9-81D7-3DB9ACA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7EA06-4C93-4402-A6ED-3F8973A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CABBF-96C2-4FD9-B7FE-593C03B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D94CD-F085-49F9-A0FC-C3B3C7D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960FB-206A-45C9-B7D3-193F1D07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2D2DC-FF18-4DBD-A567-5445BD9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70911-353C-4984-9B23-7AC7998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314BC-1DE9-43FB-85FF-3D6CB58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DF6F-DAE3-43D1-B36B-937C6A37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1AB59-03B1-48A8-A4F1-A081718B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4B3DF-FAC8-415D-A056-70BE0AAD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79654-D70C-4CC1-ABF4-694C3F56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87DC2-6D41-4BEA-AB6C-BEC0EABB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9F628-03D3-4A7B-B731-8B0FCF71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7DA1B-C120-434B-AD95-1DC5BEF1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527CE-8BAD-4F24-A009-1E2FF35A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9BF59-DC8A-4E1C-9CF3-0BB58868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B4C88-2446-4096-A2B8-B0A8D24C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C4229-5424-4436-BF44-D9F2B2F4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AA6-D0F5-491B-A4FE-12D60188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725D-348E-4423-B8F0-C294391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4ABFD-A33A-4A1B-BD3A-5D48272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C81C0-1A52-4009-B739-40E96BA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D2646-BD0A-450A-BC13-61C994DB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E06BA-24C4-40E8-906F-557DD3C6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841AE-2AF0-465E-9E90-824F8FA1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398B9-3DE2-47C4-A14B-B9E61450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67A73-5733-469A-A2AF-7B87766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0B319-7706-4578-A126-F64D51A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6B6AE-7FA0-489D-A3EE-CCB71A8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C34AE-A615-4148-B471-6047F973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6475-480A-49F4-BCE2-D9A78FDD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0ACB6-8176-4D4D-A36B-5A9E628E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A1483-4E25-4561-9DD6-93CD86C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B1674-9BE7-4A7E-AA90-2FBFA52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35C80-EBCC-4B48-AF0F-D2CB187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9ED9A-A6EA-4AE9-A726-FDE456D2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A1495-588E-4ACF-B7A1-668AB9F3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894007-27E8-48C3-B036-F94FAEC4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059DB-7BD0-472E-BE1A-D3482C8D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94CC1-72D5-4D55-8430-FD00F0B1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A3403-50F8-4D24-9625-0CCDF62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D995-88AA-4669-A82A-993ED988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36DC5-F79C-408A-8F67-13A1EE07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78E75-7A13-4453-82D0-F43DE963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6F663-0AEE-4590-8787-9C1B0D0C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A2CC1-7EB7-422A-9A6B-80792391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A2706-F098-4F91-BEAF-4ED88A1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1E39C-7AF9-4F33-A499-1819970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B2CBE-7003-4550-ACAB-23D4AA20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65F4A-FE25-4D48-979B-0DE54210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5120E-115B-4F46-A36A-8C49CBB2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4E2B3-A75F-40FB-90B2-AFDE9759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131B-6580-4AAD-90A6-4DA21275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4A402-D951-4716-B29D-5D51CA4C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7E990-4332-4DB5-A3FF-2CF1A4A6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2F3806-CFB2-4564-AEB8-1D5C2041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EBE13-3E7B-47FB-8E36-E8E13FA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E025C-2178-4B7A-BD15-3D290EF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67272-55EC-4D6B-83BA-092FFA8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FD652-F084-43C4-89C2-067BF19C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1426E-83F3-4CBE-9109-045CB18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F1F97-253A-4D4E-9762-A063CD8F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E7AA6-E70A-4A9E-ACCD-0F69BC5F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32A4-6D77-4970-814E-C306187B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81587E-3D9F-4B3B-9752-D184198B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C330B-D0E4-4C7B-B835-FC168C97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50D2C-F4E1-43F1-A49A-0A83731C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7A493-EDA9-4BA2-9320-2376808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C538EF-CB9A-44F1-B643-F4FC5F8A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1E0F0-6F36-413B-83A8-CA899C79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B6283-AF5C-4130-85AC-C856A18F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98E157-F04C-4EF2-8313-229B0ED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23309-E9A1-42D1-B7DF-436A222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4AE51-EE4F-4146-B4B8-446E39B2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3C3C-6CA7-4860-B78F-1247A533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0B95A-1A28-4C4F-8BDD-70F9B7A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786DE-E7D6-44B6-8375-0C5C3E76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468A9-08FB-4219-913C-758BF338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9BA022-14FF-4551-9A86-953635CA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E95BFD-505C-4D44-BB6C-C02B7783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6B9C7-E277-493C-BBBB-9C75053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B46666-C151-4739-828D-D54D60F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7D1CB-9B54-4F0B-8346-1E8A42DE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C98DB-F048-4FCF-AE5D-B48045AB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715FED-5E79-403E-A4CB-BA7AA091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CA6F-69CC-439F-BF23-53A9E85F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A272E6-176B-4B03-B8F4-3AE7EE9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B6527-39F4-4A17-B750-DA13111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C804A-016F-4961-A552-EEE04750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56D5C6-6D34-4191-A1DE-ADA2CD64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C03C8-79CF-4665-96DD-5C671420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D4A987-40F8-4329-A756-503ADDC3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506939-8A14-440F-B421-9F249951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59D626-859C-47D2-AB08-A0DFF760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46E40-7789-45D3-8390-78D8EA6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63ABE3-A396-4C7E-941F-E56D1670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E4FC-336C-4CEA-BEF4-503C22EE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71E3DD-921B-40BD-8C0E-F594FEE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F03F1C-30F4-4EA4-ACB9-49825EA4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F1CA70-E953-42D4-B16D-ABA2C95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B2EAEC-2BB9-4051-BDC0-C95C0276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8F8A4A-5268-4DE6-B7D6-3B883E89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89DAF1-9090-44D7-AC12-F6AFC207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90FEDC-92BE-4310-82AC-7287DC16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531D7B-7D16-4E79-842F-70E7DD7C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49E5B9-9BCF-461A-9F0F-EAD23959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C422A6-4893-4115-8EBA-AFA4F06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04D8-81F3-4B04-8DA7-430986A6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0F434F-0D45-4726-9693-32C37434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39684-5E14-4709-81DD-DF5C5153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99EB9B-23FE-4932-A314-2E50CC6B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CB3159-0700-4C63-9855-FE43FE07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3C75F1-37F9-47B6-82D1-F445DC6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22108-E03A-47F9-BA4F-12DD0A9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0C5A32-9DD9-4773-ADBB-0C134263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61F48D-7337-42E0-941F-DC26C2A3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742F4F-6F61-45DA-ADFF-9413F037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3412-7456-42E2-9381-83A8F9AF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665-22D1-4623-997F-61227BD4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C30E-89DC-418B-B7D1-CCDF649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557A-A5B5-4603-B14F-9A5F2A1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4ED3-69BD-4841-B5E5-1864978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6AF8-E428-4DDA-86B4-838E949E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B6E2-83F2-417C-8B0B-E397D44A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C04A-4AA3-419B-9EFF-04EB5BFA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5E7A-95E4-4F31-8101-591EC1DE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B821-DFF5-418D-A339-7329BC57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BE39-0162-4BB5-9AEE-5F5B9A6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DD19-465A-4225-8ABF-DB8FF02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E0F-911A-4E68-9DF4-99DCB281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55B3-1039-4B18-A1C9-0A9B3EF5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043F-B496-4B48-A8C5-C3130DA4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7468-4EC7-4258-8E96-DA9774BC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BB00-AFA5-4506-8E62-8127D60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9256-5769-41C9-B5D9-0A33515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4704-938F-479A-B63C-C130EE47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BD91-2B99-4F19-AC01-180BF7D3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FB4B-FBD6-4E7B-A99E-8B4E4BF3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0A5DF-D231-44C6-9242-87C7C899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9659-39F0-450E-8F89-0DEC8D3C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882-B54A-4C10-9CC1-0FCE12B0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8F79-B8A0-445E-8634-5CB005E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9CC3-8B09-4542-9610-D870E487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F5E2D-D331-4E62-8E90-DC3D224B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70435-BBEC-4D65-8A97-60D6FD2C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1830-FA3A-45A7-86AD-82C06CB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2F08-0477-4662-BF2F-9051F72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89BCB-38BC-4B1B-91B5-4685E13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9D9A-A38C-416C-87CA-A5499AF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2974-2A14-4529-9E42-C2222D8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BA1C-C29B-4ED7-96F2-EF0D837C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051-C41D-491C-9402-1C328C10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015C-1F1F-40C1-8223-EE4ED5B1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49CFA-008F-4CB5-A222-AD5A4E85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97C3-7A68-4871-B14D-43AF0C67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04BC-DEFA-4966-B472-898C7560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9EDB-60AC-4AF9-9535-D5934DF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63E9-53EB-45BD-AAAE-5BD57BD9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07361-192D-412F-A467-7CB695DB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28C42-479D-4C23-B401-DD52D4B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BC95B-3E04-432A-84BD-686214F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E98A-37CF-4561-B1BF-F445A7F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DD9-778B-4285-A815-AE52DE50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A2907-70D9-4074-805A-E762FE59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F0FDF-A6A1-4310-A388-D0471737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A9A3F-5A43-4037-B2E3-2DE2D7CC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2C191-4CF0-4E4B-A209-B8A2AF97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60F3-E39D-431B-883A-0972AF24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ABF9-A481-418F-A11A-677C1CE4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69A35-3812-44EE-9CF9-BE3577C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EE4C-BB6E-46DE-8F06-2BBA8E61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D373-968B-4112-B073-085193B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14191-BFF7-43A1-BE8A-5231568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FCF-F9E0-450F-8E68-527EA5B4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8531E-2DE0-468B-8D4E-DB1E7C5C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3F6C8-9829-4364-83BD-BD10CDD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5601-DB2C-4BB3-AFD0-621F87E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03957-A4D2-438F-8490-F456ED69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9DC4-9E9F-45F2-B5E6-81B5677D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FE314-508F-40CF-A4AB-24D06966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CE8D8-6A6A-4C4E-AC7D-373240F2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9136D-80EF-448E-A678-7CD94C58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6B70A-E4BF-4BBD-8C3E-B86093B0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25D1-BCBE-4990-AC7F-8B89270C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B2E-BF73-4225-B854-E83729D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71016-73F8-4EFE-B61E-3312EDEC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566EC-32C4-464D-9BC4-5B9F51C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9FC0F-69A8-4C0D-A014-E05D4A9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B3988-AC9B-45DF-9EB8-3B47063F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87CAD-FD9B-455C-96A8-55C6DA44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2E619-4AB2-409B-BCCB-ECB463C9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15F47-D3D6-4C7B-BD7D-521D0D9D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B428B-7AF8-442E-96CB-F18E8C44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A8053-29FB-46F8-BD47-547633C4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35BF8-325F-464A-AACD-0FDAE1F4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B604-4CAA-4F7C-9A77-026DCD8CE0FE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2E1-66BA-4F0E-999D-6001AF01ABE6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9718-3E25-4879-A526-6DE6048DF010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8F9-F608-4BBE-961D-4332647700AC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408-432E-491E-8ACA-ECB37CC62381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0F5A-D152-41DC-A04E-B53A06D00253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52A-46A2-46FB-BFA0-A587D92ED90B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8A8D-3ADD-40E9-BA89-FA32A5D67C70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0558-3840-4DC8-9389-F7537C97393A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97A6-A955-4777-BA1A-C50AD950EB9F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541" name="Oval 3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Oval 4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Oval 5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Oval 6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Oval 7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6C6C-07F2-4B8C-BE73-68C17168D63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ED38-F8BF-4369-A7C9-A6A78F68900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156-AF2E-4D56-AFB5-7C27E6D6276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33C7-2D20-4209-BBE9-D041E804E30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D4D-098A-4A28-9ABF-1AFB7721C31F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A38-E4F0-482C-9F6C-ECDB1240233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100-C22A-459D-93D0-B790E976403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2203-5CDF-421E-ADA8-B385F296FA6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16B8-C8DB-409A-83B6-C0FE59E233D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1831-1E2D-4E58-A1DB-3A0CCF4824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A29F-E144-4488-8365-95D3D9614B3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E3B9-3269-4D58-8FBA-4EA2D187A37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43" name="Oval 4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37AD-9212-4175-882C-1F0B6B29DC78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8D7-C095-4C79-AD45-D7F85B4E982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104F-78AD-469F-8F82-91E83718CBDF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F23E-97AB-4F0B-981A-87F66008598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3D4C-BAB9-43CA-B06E-5D57083CC35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F9E3-7E7D-49C8-81B7-AE4DFF54F66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731-AF33-49EB-8209-37BFB9FE4E2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EA45-BB1C-4A21-B072-34749A46EE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2172-3170-4A6B-A5EC-86A73D5100A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D8F5-2393-447D-9A27-A077BF39959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A84-1657-4CB4-9FB6-F61C32E8FB3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E1D4-7383-4C1D-9057-48E30D2821F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539D-1D64-4DCA-8B3D-461E2C227B59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AA0D-6734-422B-AD06-A74E5B984BA8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3E3B-B242-4D17-9429-D164D77263DF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A115-6D1A-4796-9D19-88CE172CF439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BD31-65FA-4FB6-B32D-03A33292B7F7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12D1-42DA-4836-9EAD-2E1041F2A584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CE7E-E8CE-4CB3-83E4-5795AB51C594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7629-29F0-471E-886E-5773DA977855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851F-2B4E-469E-954E-422145A393B9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271A-054A-4C9C-998F-8A38D610816E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E46-E40C-4628-8D90-3B80A66AAE62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1970-872A-4D41-82EE-85296604421A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62E-C3FC-4846-9D73-3A9048030F52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DCCA-1AEC-42B2-AD3E-2F77D9AD3910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4"/>
          <p:cNvSpPr/>
          <p:nvPr/>
        </p:nvSpPr>
        <p:spPr>
          <a:xfrm>
            <a:off x="2500200" y="1565280"/>
            <a:ext cx="7194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8700" spc="-1" strike="noStrike">
                <a:solidFill>
                  <a:srgbClr val="ff0000"/>
                </a:solidFill>
                <a:latin typeface="Arial"/>
              </a:rPr>
              <a:t>*  </a:t>
            </a:r>
            <a:r>
              <a:rPr b="0" lang="zh-CN" sz="8700" spc="-1" strike="noStrike">
                <a:solidFill>
                  <a:srgbClr val="ff0000"/>
                </a:solidFill>
                <a:latin typeface="Arial"/>
              </a:rPr>
              <a:t>花之歌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523880" y="354312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纪伯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3"/>
          <p:cNvSpPr/>
          <p:nvPr/>
        </p:nvSpPr>
        <p:spPr>
          <a:xfrm>
            <a:off x="3840120" y="2987640"/>
            <a:ext cx="926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112840" y="878040"/>
            <a:ext cx="774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Text Box 5"/>
          <p:cNvSpPr/>
          <p:nvPr/>
        </p:nvSpPr>
        <p:spPr>
          <a:xfrm>
            <a:off x="0" y="1405080"/>
            <a:ext cx="1219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文是用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第一人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拟人的手法写出了花的心声，这是花在自我歌唱，作者与花融为一体了，花的理想与追求就是作者的理想与追求，因此，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题目“花之歌”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――“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花的歌唱”是与课文内容吻合的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而题目“花”，就是作者站在旁观者的立场上客观地写花，这与课文内容是不相符的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文本框 3"/>
          <p:cNvSpPr/>
          <p:nvPr/>
        </p:nvSpPr>
        <p:spPr>
          <a:xfrm>
            <a:off x="812880" y="1828800"/>
            <a:ext cx="1046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纪伯伦散文诗最大特色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把要写的事物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拟人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法隐藏起来，然后再进行比喻描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7"/>
          <p:cNvSpPr/>
          <p:nvPr/>
        </p:nvSpPr>
        <p:spPr>
          <a:xfrm>
            <a:off x="227160" y="635040"/>
            <a:ext cx="11322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Arial"/>
                <a:ea typeface="黑体"/>
              </a:rPr>
              <a:t>朗读第二部分（</a:t>
            </a:r>
            <a:r>
              <a:rPr b="0" lang="en-US" sz="4800" spc="-1" strike="noStrike">
                <a:solidFill>
                  <a:srgbClr val="00b0f0"/>
                </a:solidFill>
                <a:latin typeface="Arial"/>
              </a:rPr>
              <a:t>5-7</a:t>
            </a:r>
            <a:r>
              <a:rPr b="0" lang="zh-CN" sz="4800" spc="-1" strike="noStrike">
                <a:solidFill>
                  <a:srgbClr val="00b0f0"/>
                </a:solidFill>
                <a:latin typeface="Arial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8"/>
          <p:cNvSpPr/>
          <p:nvPr/>
        </p:nvSpPr>
        <p:spPr>
          <a:xfrm>
            <a:off x="141120" y="3349800"/>
            <a:ext cx="11773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边读边想象作者描写的花的形象，说一说哪一个形象最能打动自己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5"/>
          <p:cNvSpPr/>
          <p:nvPr/>
        </p:nvSpPr>
        <p:spPr>
          <a:xfrm>
            <a:off x="304920" y="685800"/>
            <a:ext cx="1158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资料宝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纪伯伦出生在黎巴嫩北部山区的一个农家。十二岁因不堪忍受奥斯曼帝国的残暴统治，随母亲迁往美国波士顿，十五岁只身返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纪伯伦是位热爱祖国，热爱全人类的艺术家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短暂而辉煌的生命之旅中，纪伯伦饱经颠沛流离、痛失亲人、爱情波折、债务缠身与疾病煎熬之苦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生命的最后岁月写下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朦胧中的祖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他讴歌毕生苦恋的祖国“您在我们灵魂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火，是光：您在我的胸膛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我悸动的心脏。”他反对愚昧和陈腐，热爱自由，崇尚正义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7"/>
          <p:cNvSpPr/>
          <p:nvPr/>
        </p:nvSpPr>
        <p:spPr>
          <a:xfrm>
            <a:off x="176040" y="720720"/>
            <a:ext cx="11322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我总是仰望高空，对光明心驰神往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;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我从不顾影自怜，也不孤芳自赏。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如何理解这句话的含义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文本框 8"/>
          <p:cNvSpPr/>
          <p:nvPr/>
        </p:nvSpPr>
        <p:spPr>
          <a:xfrm>
            <a:off x="77760" y="3470400"/>
            <a:ext cx="1192392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者以花自喻，借花来表达他坚持追求光明和理想，积极向上的人生态度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同侧圆角矩形 2"/>
          <p:cNvSpPr/>
          <p:nvPr/>
        </p:nvSpPr>
        <p:spPr>
          <a:xfrm>
            <a:off x="336600" y="981000"/>
            <a:ext cx="3166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并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144360" y="1628640"/>
            <a:ext cx="3934080" cy="60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6" descr=""/>
          <p:cNvPicPr/>
          <p:nvPr/>
        </p:nvPicPr>
        <p:blipFill>
          <a:blip r:embed="rId3"/>
          <a:stretch/>
        </p:blipFill>
        <p:spPr>
          <a:xfrm>
            <a:off x="334800" y="2860560"/>
            <a:ext cx="1486080" cy="2152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32f49">
                <a:alpha val="0"/>
              </a:srgbClr>
            </a:outerShdw>
          </a:effectLst>
        </p:spPr>
      </p:pic>
      <p:sp>
        <p:nvSpPr>
          <p:cNvPr id="1034" name="矩形 3"/>
          <p:cNvSpPr/>
          <p:nvPr/>
        </p:nvSpPr>
        <p:spPr>
          <a:xfrm>
            <a:off x="430200" y="1770120"/>
            <a:ext cx="115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这首为花儿唱的赞歌里，花儿是一个什么样的形象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2254320" y="2978280"/>
            <a:ext cx="90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a1a1a"/>
                </a:solidFill>
                <a:latin typeface="楷体"/>
                <a:ea typeface="楷体"/>
              </a:rPr>
              <a:t>花儿是一个奉献者和使者，它仰望高空，向往光明，从不顾影自怜，也不孤芳自赏，与万物和谐共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同侧圆角矩形 2"/>
          <p:cNvSpPr/>
          <p:nvPr/>
        </p:nvSpPr>
        <p:spPr>
          <a:xfrm>
            <a:off x="336600" y="981000"/>
            <a:ext cx="3166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并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2" descr=""/>
          <p:cNvPicPr/>
          <p:nvPr/>
        </p:nvPicPr>
        <p:blipFill>
          <a:blip r:embed="rId2"/>
          <a:stretch/>
        </p:blipFill>
        <p:spPr>
          <a:xfrm>
            <a:off x="144360" y="1628640"/>
            <a:ext cx="3934080" cy="60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6" descr=""/>
          <p:cNvPicPr/>
          <p:nvPr/>
        </p:nvPicPr>
        <p:blipFill>
          <a:blip r:embed="rId3"/>
          <a:stretch/>
        </p:blipFill>
        <p:spPr>
          <a:xfrm>
            <a:off x="334800" y="2860560"/>
            <a:ext cx="1486080" cy="2152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32f49">
                <a:alpha val="0"/>
              </a:srgbClr>
            </a:outerShdw>
          </a:effectLst>
        </p:spPr>
      </p:pic>
      <p:sp>
        <p:nvSpPr>
          <p:cNvPr id="1039" name="矩形 3"/>
          <p:cNvSpPr/>
          <p:nvPr/>
        </p:nvSpPr>
        <p:spPr>
          <a:xfrm>
            <a:off x="430200" y="1770120"/>
            <a:ext cx="115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如何理解文章最后一段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2254320" y="2978280"/>
            <a:ext cx="90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a1a1a"/>
                </a:solidFill>
                <a:latin typeface="楷体"/>
                <a:ea typeface="楷体"/>
              </a:rPr>
              <a:t>这首散文诗表面上是写花，但真正是写人。诗人正是利用花这种大自然的语言，来寄托自己的伟大情操；同时也号召我们要“仰望高空，对光明心驰神往；不顾影自怜，也不孤芳自赏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5" descr=""/>
          <p:cNvPicPr/>
          <p:nvPr/>
        </p:nvPicPr>
        <p:blipFill>
          <a:blip r:embed="rId1"/>
          <a:stretch/>
        </p:blipFill>
        <p:spPr>
          <a:xfrm>
            <a:off x="49320" y="765000"/>
            <a:ext cx="2692440" cy="533520"/>
          </a:xfrm>
          <a:prstGeom prst="rect">
            <a:avLst/>
          </a:prstGeom>
          <a:ln w="0">
            <a:noFill/>
          </a:ln>
        </p:spPr>
      </p:pic>
      <p:sp>
        <p:nvSpPr>
          <p:cNvPr id="1042" name="直线连接符 21"/>
          <p:cNvSpPr/>
          <p:nvPr/>
        </p:nvSpPr>
        <p:spPr>
          <a:xfrm flipV="1">
            <a:off x="-49320" y="1342800"/>
            <a:ext cx="276552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Picture 2" descr=""/>
          <p:cNvPicPr/>
          <p:nvPr/>
        </p:nvPicPr>
        <p:blipFill>
          <a:blip r:embed="rId2"/>
          <a:stretch/>
        </p:blipFill>
        <p:spPr>
          <a:xfrm>
            <a:off x="2068560" y="1962000"/>
            <a:ext cx="8058240" cy="293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文本框 1"/>
          <p:cNvSpPr/>
          <p:nvPr/>
        </p:nvSpPr>
        <p:spPr>
          <a:xfrm>
            <a:off x="133200" y="1434960"/>
            <a:ext cx="1197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文是一首散文诗，诗人运用第一人称，从花的视角描画了四季更迭花开花落的景象，以及花的日常生活和品质追求，塑造了花向往光明、与万物和谐共处的鲜明形象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抒发了诗人对人生意义的独特感悟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人生要像花一样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失意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顾影自怜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得意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孤芳自赏，无论处于哪种境遇，总是积极地向往和追求光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此外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排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句式的连续运用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使本文语言富于节奏感和音韵美，呈现出浓郁的诗情画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标题 2"/>
          <p:cNvSpPr/>
          <p:nvPr/>
        </p:nvSpPr>
        <p:spPr>
          <a:xfrm>
            <a:off x="747720" y="744480"/>
            <a:ext cx="2244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概括主题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文本框 1"/>
          <p:cNvSpPr/>
          <p:nvPr/>
        </p:nvSpPr>
        <p:spPr>
          <a:xfrm>
            <a:off x="585720" y="1747800"/>
            <a:ext cx="10976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仿写句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我是</a:t>
            </a: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亲友之间交往的礼品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我是</a:t>
            </a: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婚礼的冠冕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我是</a:t>
            </a: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生者赠予死者最后的祭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我是敬献给冠军的祝贺，我是情人心意的寄托，我是学生赠予老师的崇高敬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7" name="Picture 7" descr=""/>
          <p:cNvPicPr/>
          <p:nvPr/>
        </p:nvPicPr>
        <p:blipFill>
          <a:blip r:embed="rId1"/>
          <a:stretch/>
        </p:blipFill>
        <p:spPr>
          <a:xfrm>
            <a:off x="546120" y="836640"/>
            <a:ext cx="2692440" cy="711000"/>
          </a:xfrm>
          <a:prstGeom prst="rect">
            <a:avLst/>
          </a:prstGeom>
          <a:ln w="0">
            <a:noFill/>
          </a:ln>
        </p:spPr>
      </p:pic>
      <p:sp>
        <p:nvSpPr>
          <p:cNvPr id="1048" name="直线连接符 21"/>
          <p:cNvSpPr/>
          <p:nvPr/>
        </p:nvSpPr>
        <p:spPr>
          <a:xfrm flipV="1">
            <a:off x="642960" y="1604880"/>
            <a:ext cx="2765520" cy="79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直接连接符 6"/>
          <p:cNvSpPr/>
          <p:nvPr/>
        </p:nvSpPr>
        <p:spPr>
          <a:xfrm>
            <a:off x="493560" y="2352600"/>
            <a:ext cx="11320560" cy="648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文本框 7"/>
          <p:cNvSpPr/>
          <p:nvPr/>
        </p:nvSpPr>
        <p:spPr>
          <a:xfrm>
            <a:off x="495360" y="952560"/>
            <a:ext cx="3284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8"/>
          <p:cNvSpPr/>
          <p:nvPr/>
        </p:nvSpPr>
        <p:spPr>
          <a:xfrm>
            <a:off x="160200" y="2489040"/>
            <a:ext cx="118396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正确、流利、有感情地朗读诗歌，了解诗歌的主要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象诗歌描绘的画面，深入理解课文内容，感受花儿的形象。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习作者第一人称的写法，感受花的精神，体会文中蕴含的哲理。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难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WordArt 6" descr=""/>
          <p:cNvPicPr/>
          <p:nvPr/>
        </p:nvPicPr>
        <p:blipFill>
          <a:blip r:embed="rId1"/>
          <a:stretch/>
        </p:blipFill>
        <p:spPr>
          <a:xfrm>
            <a:off x="2336760" y="2011320"/>
            <a:ext cx="801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3" descr=""/>
          <p:cNvPicPr/>
          <p:nvPr/>
        </p:nvPicPr>
        <p:blipFill>
          <a:blip r:embed="rId2"/>
          <a:stretch/>
        </p:blipFill>
        <p:spPr>
          <a:xfrm>
            <a:off x="1103400" y="3468600"/>
            <a:ext cx="378468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137880" y="882720"/>
            <a:ext cx="1186956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纪伯伦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883—193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），黎巴嫩诗人、作家、画家，被称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艺术天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黎巴嫩文坛骄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，与印度的泰戈尔齐名，被并称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站在东西方文化桥梁上的两位巨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。其作品多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主题，通过大胆的想象和象征的手法，表达深沉的感情和远大的理想，并常常流露出愤世嫉俗的态度或表现某种神秘的力量，是阿拉伯近代文学史上第一个使用散文诗体的作家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主要代表作有散文诗集《泪与笑》《先知》《沙与沫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文本框 3"/>
          <p:cNvSpPr/>
          <p:nvPr/>
        </p:nvSpPr>
        <p:spPr>
          <a:xfrm>
            <a:off x="106200" y="890640"/>
            <a:ext cx="34005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硕大无朋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心驰神往：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顾影自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孤芳自赏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4"/>
          <p:cNvSpPr/>
          <p:nvPr/>
        </p:nvSpPr>
        <p:spPr>
          <a:xfrm>
            <a:off x="2957400" y="958680"/>
            <a:ext cx="8906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形容无比的大。朋：伦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文本框 5"/>
          <p:cNvSpPr/>
          <p:nvPr/>
        </p:nvSpPr>
        <p:spPr>
          <a:xfrm>
            <a:off x="2957400" y="2225520"/>
            <a:ext cx="8845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心神飞到（向往的地方），形容非常向往。神秘而迷人的九寨沟令人心驰神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"/>
          <p:cNvSpPr/>
          <p:nvPr/>
        </p:nvSpPr>
        <p:spPr>
          <a:xfrm>
            <a:off x="2971800" y="3622680"/>
            <a:ext cx="8933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望着自己的影子，自己怜惜自己，形容孤独失意的样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8"/>
          <p:cNvSpPr/>
          <p:nvPr/>
        </p:nvSpPr>
        <p:spPr>
          <a:xfrm>
            <a:off x="2871720" y="5087880"/>
            <a:ext cx="8944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命清高，自我欣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标题 1"/>
          <p:cNvSpPr/>
          <p:nvPr/>
        </p:nvSpPr>
        <p:spPr>
          <a:xfrm>
            <a:off x="469800" y="571680"/>
            <a:ext cx="6012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读课文，整体感知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内容占位符 2"/>
          <p:cNvSpPr/>
          <p:nvPr/>
        </p:nvSpPr>
        <p:spPr>
          <a:xfrm>
            <a:off x="569880" y="1943280"/>
            <a:ext cx="105156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宋体"/>
              </a:rPr>
              <a:t>本首散文诗可以分成几部分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7"/>
          <p:cNvSpPr/>
          <p:nvPr/>
        </p:nvSpPr>
        <p:spPr>
          <a:xfrm>
            <a:off x="195120" y="636480"/>
            <a:ext cx="4168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分为两部分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8"/>
          <p:cNvSpPr/>
          <p:nvPr/>
        </p:nvSpPr>
        <p:spPr>
          <a:xfrm>
            <a:off x="227160" y="1568520"/>
            <a:ext cx="1157580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——4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以一系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·····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句式写花      对自己的认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5——7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写花的品格。她与自然万物和谐相处，她向往光明，从不顾影自怜，也不孤芳自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标题 1"/>
          <p:cNvSpPr/>
          <p:nvPr/>
        </p:nvSpPr>
        <p:spPr>
          <a:xfrm>
            <a:off x="789120" y="976320"/>
            <a:ext cx="8321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深入研读课文，思考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内容占位符 2"/>
          <p:cNvSpPr/>
          <p:nvPr/>
        </p:nvSpPr>
        <p:spPr>
          <a:xfrm>
            <a:off x="857160" y="2879640"/>
            <a:ext cx="8909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从哪些地方可以看出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是花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 txBox="1"/>
          <p:nvPr/>
        </p:nvSpPr>
        <p:spPr>
          <a:xfrm>
            <a:off x="169560" y="552600"/>
            <a:ext cx="1180476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大自然的话语，大自然说出来，又收回去，藏在心间，然后又说一遍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这是说自然界中循环往复的花开花落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星星，从苍穹坠落在绿茵中。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交代花的整体形貌和生长环境，远观犹如草坪中亮丽的星星点点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突出花的高洁夺目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诸元素之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冬将我孕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使我开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让我成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令我昏昏睡去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说花的四季变化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出花孕育、生长的过程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亲友之间交往的礼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婚礼的冠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生者赠与死者最后的祭献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说花的功用，可以作为表达情意的礼物，可以作为婚礼的装饰，可以作为葬礼的祭献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出了花对人类无私的奉献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7"/>
          <p:cNvSpPr/>
          <p:nvPr/>
        </p:nvSpPr>
        <p:spPr>
          <a:xfrm>
            <a:off x="93600" y="669960"/>
            <a:ext cx="11322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将文中的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改为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花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试着读一读。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哪样更好呢？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8"/>
          <p:cNvSpPr/>
          <p:nvPr/>
        </p:nvSpPr>
        <p:spPr>
          <a:xfrm>
            <a:off x="177840" y="2538360"/>
            <a:ext cx="118918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阅读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把要写的事物用拟人的手法隐藏起来，然后再进行比喻描写，是纪伯伦散文诗写作的一大特色；读这类散文诗，我们只要抓住这些比喻去想象画面，就能大致明白作者在写什么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9:01:00Z</dcterms:created>
  <dc:creator/>
  <dc:description/>
  <dc:language>en-US</dc:language>
  <cp:lastModifiedBy>万润仪器贸易公司</cp:lastModifiedBy>
  <dcterms:modified xsi:type="dcterms:W3CDTF">2020-08-24T08:41:11Z</dcterms:modified>
  <cp:revision>154</cp:revision>
  <dc:subject/>
  <dc:title>  纪伯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